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987-9BFE-4E56-93FF-18C074A7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41DC-9FC0-48BF-90C8-B91D4D22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0A4-A70F-4448-AE89-A315A7E8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624-3AEC-4EE5-B020-7DEC8798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CA95-F4E7-4F33-9288-8861E21E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C3EF-D0C7-4706-817D-E5E7B463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C2D0-728B-4D67-BDA1-0D0CC848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EC74-508B-448B-939F-C4D4DBAA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5E79-18E8-4C23-B40C-8D225758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00B9-B4A8-4D40-8C13-8BEBFC06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7E70-425C-4E0A-9ECF-2801E92E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164-CB4C-43B1-9628-6520DBA6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CA84-556C-449E-A1AD-82CA87CF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66BB-F9D1-4475-84AE-AC145D08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DE72-5869-4BEB-BAE8-104BA37D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976A-8BD0-4AF1-8A3A-254576E9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5316-78B5-4AE7-AD70-60236EE9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F33-FE48-410B-BC89-C9DF28C5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6D3-7A18-4852-BA2C-846779F4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DAD-B4E0-4AE9-A9DA-E97CE538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6B0-F3DE-4DB6-8FD6-A4B1710C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D1F-EC27-4F4F-AB3C-A40F36AF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A61-5F81-4ABA-ADCC-BE3A0FEA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B77-49D3-418D-BCB3-B71538D5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A0AD-9573-490A-AF37-5607507B0DC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B755-D28F-4480-AB2E-5DCD56538C7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79040" y="2223360"/>
            <a:ext cx="7585920" cy="128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hocolateBox"/>
              </a:rPr>
              <a:t>CHAPTER 6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cal Period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groups 1A and 2A and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groups 3A, 4A, 5A, 6A, 7A, and 0 except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transition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inner transition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iod numb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rresponds to the principal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Atomic Siz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adius of atoms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tomic rad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size increases as you move down a group of the periodic table and decreases as you move form left to right across a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hielding eff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se electrons on the nucleus is constant within a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Ionization Energ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energy that is required to overcome the attraction of the nuclear charge and remove an electron to create a positive atom is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rst ionization energy decreases as you move down a group of the periodic table and increases as you move form left to right across a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Ionic Siz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c radi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size of an ion compared to same neutral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positive ions) are smaller because of the reduced energy level with the same number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egative ions) are larger because of a reduced effective nuclear charge on outer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Electronegativ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egativ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an element is the ability of an atom to attract electrons within a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increases as you go across a period form left to right and decreases as you move down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cientists needed a way to organize and refer to the growing number of known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tegorize the elements according to similarities in their physical and chemical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lationship between atomic structure and properties of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ndeleev listed the elements in vertical columns in order of increasing 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ular recurrence of physical and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ank spaces left where unknown elements belonged, but able to predict their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eley determined atomic number of the atom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ranged the elements by order of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moseley"/>
          <p:cNvPicPr/>
          <p:nvPr/>
        </p:nvPicPr>
        <p:blipFill>
          <a:blip r:embed="rId1"/>
          <a:stretch/>
        </p:blipFill>
        <p:spPr>
          <a:xfrm>
            <a:off x="5410080" y="1981080"/>
            <a:ext cx="2935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Modern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040" y="2514240"/>
            <a:ext cx="773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horizontal rows of the periodic table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rio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organized by increasing atomic nu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ertical column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rou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families (organized by chemical proper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riodic La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when the elements are arranged in order of increasing atomic number, there is a periodic pattern in their physical and chem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plays the greatest part in determining the physical and chemical propertie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can be classified into four different categories based on their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440" y="2819520"/>
            <a:ext cx="781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noble gas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re elements in which the outermost s and p sublevels are filled (group 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alled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inert gas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because they do not partake in chemical re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Valenc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:  outermost s and p orbi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Octe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:  8 electrons in valence sh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presentative el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elements whose outermost s or p sublevels are only partially filled (group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lkali meta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group 1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lkaline earth meta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groups 2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aloge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nonmetallic elements of group 7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number = number of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ition 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elements whose outermost s sublevel and the nearby d sublevel contain electrons (group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ner transition 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elements whose outermost s sublevel and the nearby f sublevel contain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0:53:59Z</dcterms:created>
  <dc:creator>Leanne Vogelsong</dc:creator>
  <dc:description/>
  <dc:language>en-US</dc:language>
  <cp:lastModifiedBy>Dawn</cp:lastModifiedBy>
  <dcterms:modified xsi:type="dcterms:W3CDTF">2011-11-18T04:34:07Z</dcterms:modified>
  <cp:revision>37</cp:revision>
  <dc:subject/>
  <dc:title>Slide 1</dc:title>
</cp:coreProperties>
</file>